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A65-6C94-48A8-9FF6-F73373CA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DE7-3585-4845-A72F-B6ABAC95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F99-E8D5-4F74-95D3-20D1FC13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A56-2876-4F05-8B58-3928D1A1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2A66-40E6-4424-8E88-D2A3E94C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5AF6-3EF9-4112-BBF6-FBEF702E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4ED8-50CA-4AB2-9559-684B2F41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88D5-9B58-414A-9F11-3DFB440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419D-8F2E-41D0-94B8-16BEB198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B72-0376-4BA5-8E19-71A954F6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E07C-FBB8-4DF9-B057-BE8024D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648-2F10-473F-BA67-5096DAA6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6164-85AC-4378-A1E4-DE206FA9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B6D6-43BB-4F07-95E9-5DA21FE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EB97-2436-4911-9005-3C0E1E54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75D4-2676-4E04-97EB-C7D8949C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20EE-D215-4B82-9E28-50FB303F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D49-823F-4AE3-8986-6A917174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953-AD4A-46F0-9857-525C9AA1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52E-BE3E-4E53-898F-B9E74B4B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499-D93D-42F4-A171-B84AC701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829-6950-4602-B4E8-61E90FF0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AFC-EF90-40C0-9F99-7498F02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114-E275-4757-BD9B-8620DBB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7CE6-EE6F-44D8-8296-98218E31C67C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1343-9602-4EA2-A7F2-8B1FC201D860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acultad de Cs. Físicas y Matemáticas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Magíster en Gestión de Operaciones</a:t>
            </a:r>
            <a:br>
              <a:rPr sz="1200"/>
            </a:b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Taller de Preparación de T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81952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aracterización del efecto en las ventas de la aplicación de distintos actividades promociona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5486400"/>
            <a:ext cx="3429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Alumno: Blas E. Duarte Alleuy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Profesor Guía: Máximo Bosch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Verdana"/>
              </a:rPr>
              <a:t>Marcel Goic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828800"/>
            <a:ext cx="6248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Taller de Preparación de Tesi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IN79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47840" y="609480"/>
          <a:ext cx="7617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609480"/>
                    <a:ext cx="761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3048120"/>
          <a:ext cx="7772400" cy="30877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upones de Descuent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Reducciones de Preci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onus Pac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(2x1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ampl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omociones de Amar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omociones de Lealta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uest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emi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orteos y Concurs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762120" y="2057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Tipos de Promocione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28195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8769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96252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962520"/>
            <a:ext cx="259056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886200"/>
            <a:ext cx="2590920" cy="1295280"/>
          </a:xfrm>
          <a:prstGeom prst="ellipse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BF0-CB21-422C-886D-B51300C939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Book Antiqua"/>
              </a:rPr>
              <a:t>Para modelar los efectos de las promociones se debe determina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Objetivos de la promo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Características de los diferentes tipos de promociones y el efecto de sus significados sobre los obje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Efectividad de las diferentes promo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Rango de las decisiones de la promo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A30-DB6B-474E-A6D5-D39A7705B4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Objetivos del Estu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Gener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Clasificar los distintos tipos de promociones de acuerdo a su objetivo e impac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Elaborar un modelo descriptivo que permita cuantificar (y predecir) el impacto de los distintos tipos de promo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4800600"/>
            <a:ext cx="11602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C6E-E075-4C87-83F4-21BF214724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09480" y="1828800"/>
            <a:ext cx="7467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Búsqueda de Modelos de Respuesta de Clientes ante promocion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Categorización de los tipos de promociones                         desarrolladas en la empres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B</a:t>
            </a: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úsqueda Bibliográfica acerca de medición de impacto de las promociones en las venta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Análisis de Caso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85B-015F-43C2-8D50-EDAE6A24B8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Responder a los objetiv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Determinar los tipos de promociones que se desarrollan dentro de la empresa y sus efect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Determinar parámetros de medición de efectividad de las promociones en base a los resultados en las vent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C06-CF68-4956-B911-875B93B998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Bibliografí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Book Antiqua"/>
              </a:rPr>
              <a:t>A Decision Support System for Planning Manufacturers Sales Promotion Calendars”. </a:t>
            </a:r>
            <a:r>
              <a:rPr b="0" lang="es-ES_tradnl" sz="2400" spc="-1" strike="noStrike">
                <a:solidFill>
                  <a:srgbClr val="eaeaea"/>
                </a:solidFill>
                <a:latin typeface="Book Antiqua"/>
              </a:rPr>
              <a:t>Silva</a:t>
            </a: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-Risso, J., Bucklin, R. Morrison, D. Marketing Science 200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The Category-Demand Effects of Price Promotion”. </a:t>
            </a:r>
            <a:r>
              <a:rPr b="0" lang="es-CL" sz="2400" spc="-1" strike="noStrike">
                <a:solidFill>
                  <a:srgbClr val="eaeaea"/>
                </a:solidFill>
                <a:latin typeface="Book Antiqua"/>
              </a:rPr>
              <a:t>Nijs, V., Dekimpe, M., Steenkamp, J. Marketing Science 2001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Book Antiqua"/>
              </a:rPr>
              <a:t>Presentación “Teoría de Promociones”, Bosch, 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119232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312-1C74-4AA6-91B9-55619BA17A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eaeaea"/>
                </a:solidFill>
                <a:latin typeface="Book Antiqua"/>
              </a:rPr>
              <a:t>PREGUNTAS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eaeaea"/>
                </a:solidFill>
                <a:latin typeface="Book Antiqua"/>
              </a:rPr>
              <a:t>¿?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276720" y="609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E42-CCE3-4C68-A701-06F85A031C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Motiv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Objetivos del Estud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Metodologí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Resultados Esperad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Plan de Trabaj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Bibliografí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Pregu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172200" y="4800600"/>
            <a:ext cx="2749680" cy="169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042-74CC-406E-A654-1BCAD68EAE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</a:t>
            </a:r>
            <a:r>
              <a:rPr b="0" lang="en-US" sz="3200" spc="-1" strike="noStrike">
                <a:solidFill>
                  <a:srgbClr val="eaeaea"/>
                </a:solidFill>
                <a:latin typeface="Book Antiqua"/>
              </a:rPr>
              <a:t>Qué tipos de promociones de ventas para el consumidor se usa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4DF-6BDC-4A1D-9400-262901FCE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Book Antiqua"/>
              </a:rPr>
              <a:t>Valor Agregado a la marca diseñada para animar y acelerar una respuesta del comporta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477120" y="4724280"/>
            <a:ext cx="1646280" cy="1349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4876920"/>
            <a:ext cx="2057400" cy="106668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0292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Cadena de Suministro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10552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1055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883-3B96-4472-9637-EC82A514EF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905120"/>
            <a:ext cx="22096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de Venta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14600"/>
            <a:ext cx="2057400" cy="9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FABRICANT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428920"/>
            <a:ext cx="2286000" cy="99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RETAILER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4" name=""/>
          <p:cNvCxnSpPr>
            <a:stCxn id="162" idx="3"/>
            <a:endCxn id="163" idx="1"/>
          </p:cNvCxnSpPr>
          <p:nvPr/>
        </p:nvCxnSpPr>
        <p:spPr>
          <a:xfrm flipV="1">
            <a:off x="2757240" y="2961720"/>
            <a:ext cx="3020040" cy="1332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228600" y="4952880"/>
            <a:ext cx="2438280" cy="762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al Consumido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4648320"/>
            <a:ext cx="213372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Promocion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al Retail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5410080"/>
            <a:ext cx="1981080" cy="993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NSUMIDOR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cxnSp>
        <p:nvCxnSpPr>
          <p:cNvPr id="168" name=""/>
          <p:cNvCxnSpPr>
            <a:stCxn id="162" idx="2"/>
            <a:endCxn id="167" idx="1"/>
          </p:cNvCxnSpPr>
          <p:nvPr/>
        </p:nvCxnSpPr>
        <p:spPr>
          <a:xfrm>
            <a:off x="1714680" y="3449160"/>
            <a:ext cx="1700640" cy="242172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3" idx="2"/>
            <a:endCxn id="167" idx="3"/>
          </p:cNvCxnSpPr>
          <p:nvPr/>
        </p:nvCxnSpPr>
        <p:spPr>
          <a:xfrm flipH="1">
            <a:off x="5424120" y="3508200"/>
            <a:ext cx="1510560" cy="236304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graphicFrame>
        <p:nvGraphicFramePr>
          <p:cNvPr id="17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222-648B-4EE6-9D00-64D785642B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Book Antiqua"/>
              </a:rPr>
              <a:t>Sí, factor principal en presupuesto de Market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Book Antiqua"/>
              </a:rPr>
              <a:t>Permite atraer a los usuarios ajenos a la marca hacia la mar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5CB-454F-469D-A705-EDC6B8428B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fectos del Marketing Mix (Complement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Dinámica de Respuesta de Consumi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Competen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Comportamiento del Ret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801-4886-44BA-809F-83884FCF79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es una promo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Es necesario un manejo de los efectos de las promocion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¿Qué factores consider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Book Antiqua"/>
              </a:rPr>
              <a:t>¿</a:t>
            </a:r>
            <a:r>
              <a:rPr b="0" lang="en-US" sz="3200" spc="-1" strike="noStrike">
                <a:solidFill>
                  <a:srgbClr val="eaeaea"/>
                </a:solidFill>
                <a:latin typeface="Book Antiqua"/>
              </a:rPr>
              <a:t>Qué tipos de promociones de ventas se usan para el consumid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s una muy buena pregunta.....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1527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2ED-82EF-4098-8DBF-45BBD269FC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Book Antiqu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33920" y="3886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Book Antiqua"/>
              </a:rPr>
              <a:t>Efectos</a:t>
            </a:r>
            <a:r>
              <a:rPr b="0" lang="es-ES" sz="2800" spc="-1" strike="noStrike">
                <a:solidFill>
                  <a:srgbClr val="eaeaea"/>
                </a:solidFill>
                <a:latin typeface="Book Antiqua"/>
              </a:rPr>
              <a:t> de las Promocion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343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delantar Compr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830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umentar Consum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4641120" y="5364000"/>
            <a:ext cx="42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ambiarse de 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rc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38280"/>
            <a:ext cx="45720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COMUNICACIÓ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INCENTIVO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914400" indent="-457200">
              <a:lnSpc>
                <a:spcPct val="110000"/>
              </a:lnSpc>
              <a:spcBef>
                <a:spcPts val="1250"/>
              </a:spcBef>
              <a:buClr>
                <a:srgbClr val="33cc33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Verdana"/>
              </a:rPr>
              <a:t>INVITACIÓ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696080" y="561960"/>
          <a:ext cx="4194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1960"/>
                    <a:ext cx="4194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229600" y="533520"/>
          <a:ext cx="5810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81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33F-FF67-41D5-B637-449FFD9C4B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43:12Z</dcterms:created>
  <dc:creator>Blas</dc:creator>
  <dc:description/>
  <dc:language>en-US</dc:language>
  <cp:lastModifiedBy>julie lagos</cp:lastModifiedBy>
  <dcterms:modified xsi:type="dcterms:W3CDTF">2004-10-22T14:09:39Z</dcterms:modified>
  <cp:revision>4</cp:revision>
  <dc:subject/>
  <dc:title>Universidad de Chile Facultad de Cs. Físicas y Matemáticas Magíster en Gestión de Operaciones Taller de Preparación de Tesis</dc:title>
</cp:coreProperties>
</file>